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DA6F0-9976-4273-92BC-67ACF56F6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52F2-C06D-49CE-98C3-2848AEFF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67117-6BB8-43AA-AB7C-C3254A105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3348B-6696-4AE1-8B5F-004E33ECB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DDF3FB-17AA-428B-8F89-CDE879B1F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FF5F5-B992-48A2-B9EB-881F9A8B9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7930F-9EB8-48FB-B686-25F0B8D8C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81072-E4FA-4A4F-81EA-AC33C607A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A8D92D-4B98-4745-B0C4-21E143D059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CBF978-C586-465A-A58B-7D5FC305C3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EFB768-079C-403A-98A4-934FF5EA64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2E1126-80E1-453D-8D50-BD7D94C005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DF8B6-9636-4A03-9253-780230C09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374FE0-9D01-485E-8576-34C32EFE8F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360497-2B02-4E96-8B85-8AFBC23806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AC0089-32E7-4EC4-AF51-2664CCC1BD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B2045C-D233-4F4C-94EB-E15D3080B1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F00DF-BCDE-4F44-BEB8-5FA1F0B63E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740503-82B6-47A4-A3FC-9433582356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1EF1B8-CCD7-4E0C-A65D-AC4707E6C1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831A32-A287-4EAB-84E0-7DC27FC3E9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989A45-28EC-422F-A716-C8C381855B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882D06-60D9-4344-AF9E-43F4CE6724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1C1AC-4257-4E17-BC3F-A88F8C05D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C689A3-9C0A-4BF8-AFB0-6442DDD2ED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A051BB-962E-4D27-A239-D1C2BABCF7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3CC700-1C8B-4509-B723-19D3A654D4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45E690-03D9-4E1E-B896-9B815BDAFE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103E4E-A04A-4D8F-BAEA-EFA59EFE4C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0F752F-FEDC-4113-8826-DE2F90F0E6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95DBC-2DED-4067-B908-51FE01FE65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3AB7B5-2E9F-4047-BF5D-81F3A2C850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222B99-83AA-4130-81C5-2CB28FA7A1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FDDD4C-7AA0-43F4-9F80-517CA7DFA9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43EDC-63C2-486F-A70F-AB5474612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37EF6F-9478-4E0D-8322-7D209EC5F9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7717D1-C686-45C5-B274-FAF16A60F1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579301-8261-4157-8645-786297FD1F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AD2A64-E652-4829-836B-C7C48B0749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71A15F-9EE9-43EE-92BB-725B73BF1E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32188B-307E-4899-BBC0-4FF7DB1C07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592140-19A9-42B4-80EC-A04AA3E6DB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6AF969-61AF-4D02-AFE1-62561CCC54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BCA2D7-90F9-4F4B-9D07-C51A86ED0B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9DB389-9434-40A8-A103-6868C6E93E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0A490-F849-447C-82F5-2E723CB0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1D7DA6-CCEA-4036-AB0A-E72507F67D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1DEF69-BEFC-4DE6-8BA2-E7E4B7BBFD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5ECB09-8462-41CA-BDC5-BCCB627E72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1E7DBA-0F2F-4213-8964-EF60CB3E31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32D4F1-579E-4A6D-8C43-81ECD2BC24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182E2D-B887-4920-B657-787734195D3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93E706-C8C1-4EEF-80C2-3C60635DBB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81EF72-9CF5-43CA-B133-8CBE87F9EA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9215AA-7816-4C26-BB62-6BBB42EB31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1EFFAE-613F-4682-80D0-AF73938655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C20A3-015F-419F-88FE-84391BDA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27720D-F003-4939-BAC0-9ACB25CA6B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26FE9-8487-40E7-B7E9-7B678640F1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E76BDC-8F67-47F1-94C9-22E6F592E4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636649-829C-426F-B576-2D08B708E2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4CDF5D-2017-4CCB-B319-7B9BDC7318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F2DF8A-CD46-4722-A38D-6F1F265C92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B2B09A-9102-4A3B-BC2E-EF6D0404CD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40BE0-A993-4A03-8C9A-093942296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172B0-00D9-4E77-A4F0-3B922E48A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8CE7F-6EEF-41CD-8485-D16871373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AC1F2-EB48-4E84-9A4E-CCBB59F0C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974B-CD02-4B19-939B-662BB7EB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3D78C-DA82-43CF-BAF6-128824BD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4BBAB-E0B2-48A5-A5F8-3F5FFBB18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E57C3-4862-4809-BF80-B659A9D6E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98311-346F-4904-ABE1-E57DC87E1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55F8C-D2A1-4F1F-9F41-439F9A5AD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2DB22-CFF6-42B9-AAC3-7562DDCC7E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E7AE6-2A13-47D0-A580-0628B943C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612BA-7B47-48A8-977D-D5B4B744C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0A90D-0A14-456B-85FD-A6792D27D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6F3F9-E11F-4839-9DC3-93F584C47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5CAF-CE70-4AB8-92F1-866B0206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33F93-8E49-47A0-8946-74C663336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66947-B75C-4FEB-90B4-472A66A7E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AB2FE-50B0-4258-9F2D-91545245A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53DFC-2D46-4B50-A637-FEE36EFF8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DF654-7AEA-4503-8C2C-4A6E20179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6C23FA-D94F-425B-84EF-5E2AD9830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D5C741-DDF5-4A22-A472-90EF911DC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5015D-B6B8-48A4-B927-8F6FB5149C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A5527-42F7-4F3A-A3E9-31AAA37F9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B06F3-9C8C-47AB-BDD8-5A9E12DB4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692BE-B479-466B-9AB1-0955410E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BDB2D-9280-4360-B4DE-98201A330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360F1-CE8C-4314-9093-09CD7023D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B4BBE-444B-4FAE-A637-89DF478DC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831D8-E186-4672-A3B3-466C44880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CDF59-336A-4348-91E9-BB5A42244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48CD0-7FEB-42AE-BE72-8CB6C9D20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C75B7-60B6-4658-94B3-12198B163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D61AD-BF89-42AB-BDD8-EB408946B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9C0CB-B440-40F9-A07D-B0AC45188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AC2F6-4287-4D8D-B6EC-5DED5D904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ED79F-EE76-4712-A99C-F0EC0A48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6ED9E-20BC-4134-AB87-E33FFA8D0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091D9-89B4-410A-8F54-995A18F2F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0437C3-FAAB-423F-ABE1-D6EFD8FBE6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892885-F28E-4554-9C9D-A43A18B06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E7AA1B-AB28-4867-A7A6-9FC228C83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99852-9D18-470C-817F-35E77199D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5EDCE-0DD7-4EDA-9C61-E20969EA7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97AA1-AC34-42A6-A0A2-320D29BC5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3A81D-C1B5-4AA5-8BD6-9F4BB2C0B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8C897-F998-4930-B299-67AA22DC08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E8C3-02E4-4188-AE2D-574294201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6BE01C-6B6C-47BF-A7FF-8EC80D9E3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356BE8-DD50-4BB2-BCF7-21197EB782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FFEB2-D26C-4BED-8292-6327B7400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E5FBE-39E8-4E22-BF14-D4D89F013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51054B-2E20-4748-B55A-4D0C7AA09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347C7-0888-48B2-8405-D1A3CC6D5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1B395-9B49-4C42-9586-6A29F93DC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C02AF-D9FB-4616-891C-152734376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7471C-8AF0-4296-9C0B-5B53BDF0B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76B64-C926-4FD9-BC03-7CA8E179F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0A85-233E-4E59-A4F1-857849F0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82B65-C7F4-4465-8E0F-B7FFBA41D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34B182-61EF-425F-910F-C6F1C44063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E62FD-8054-4139-B8BC-7B98229DD8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040A04-CB99-44BC-9E7B-8823A4B451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4A2DC-C272-4D7E-9E95-097FD71BC0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0B3F1-8B45-466C-B42A-93F4857AC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40391-33D4-49E3-A187-4687F78A8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F3116F-EE67-4D5D-B7D0-69036E70A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64167-8E9A-48D6-A0E8-912E71736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0A51A-BB89-4786-8EA3-281844E6D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DC3A-D0FE-4043-841E-C31960B1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D58FA-8187-4D08-B964-32A573AC0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69731-3A4E-4A3F-B159-ED47C0CB2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E1B279-A46B-49A9-83B7-D50A1E389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3598C-D32D-4EED-9915-C3BA0E2B4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A8A7A7-0FC7-4594-A416-BE29520C1A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A9B146-E10E-412B-A3EF-2BA176B187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E05D3-2B8C-463F-9F2B-396C92EE8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523C0B-D28B-4DD4-AE2D-4E3D503313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7D2361-DC48-4262-9C78-C6AE48FCD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1B32A1-F408-44FE-9845-4846EA5A8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4BCA-1045-43C8-9C79-01EF7A32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E72FC-9766-40D7-9A7E-801DBCD3F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097CE-1263-4B73-B76F-571288A24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BB3F2-EF0B-45BD-9DAC-DBE27B52F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BEDEC-16A9-4855-B579-DF3AC973C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5EB10-62D0-4E1B-966A-DEC1FAAB1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F65134-E69A-4EFA-856F-D1ACD19672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D1C72F-0438-473B-BCE2-AAC0182630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F1EBE8-6053-4AC5-984B-2AE7C2AEA7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05A68E-B45F-44DE-8202-85AED5A19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A9988D-4652-43D9-9174-A436F010C5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A283-D389-4979-BFBE-E47A23A5F43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3"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BD5E-1189-422E-8346-A2D8BA99CE4C}"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4"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6476-8226-4F8C-8632-4BB4EF7E9FDA}"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6"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8"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918D-8184-47F4-91CE-E9A69E52F3BC}"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6A04-65DD-4067-AD2C-6B092F55D461}"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3945-0AC8-42E9-AE41-470C3DC3CD7B}"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B6F-1255-4703-BE81-5D6D476C505D}"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B950-7A52-4425-AB6C-4A0F9DAF372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68"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55A0-6FA5-4E2C-995A-CBCDDB2E26F5}"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09"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8A1E-47F1-403C-98F4-AB8094F964C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0"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2BA6-0E63-4980-ADD1-E1EF54B0476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4386-79FA-4BEB-B8D6-0DF49A14FC73}"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2"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36A1-AC36-48EE-B719-BA55EDC6D8F0}"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BF96-E458-4AE8-90B8-7305391B97C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537" name="Rectangle 3" descr=""/>
          <p:cNvPicPr/>
          <p:nvPr/>
        </p:nvPicPr>
        <p:blipFill>
          <a:blip r:embed="rId1"/>
          <a:stretch/>
        </p:blipFill>
        <p:spPr>
          <a:xfrm>
            <a:off x="-219240" y="66600"/>
            <a:ext cx="9344160" cy="4280040"/>
          </a:xfrm>
          <a:prstGeom prst="rect">
            <a:avLst/>
          </a:prstGeom>
          <a:ln w="0">
            <a:noFill/>
          </a:ln>
        </p:spPr>
      </p:pic>
      <p:grpSp>
        <p:nvGrpSpPr>
          <p:cNvPr id="538" name="Group 5"/>
          <p:cNvGrpSpPr/>
          <p:nvPr/>
        </p:nvGrpSpPr>
        <p:grpSpPr>
          <a:xfrm>
            <a:off x="611280" y="476280"/>
            <a:ext cx="7992720" cy="792000"/>
            <a:chOff x="611280" y="476280"/>
            <a:chExt cx="7992720" cy="792000"/>
          </a:xfrm>
        </p:grpSpPr>
        <p:grpSp>
          <p:nvGrpSpPr>
            <p:cNvPr id="539" name="Group 6"/>
            <p:cNvGrpSpPr/>
            <p:nvPr/>
          </p:nvGrpSpPr>
          <p:grpSpPr>
            <a:xfrm>
              <a:off x="611280" y="476280"/>
              <a:ext cx="1024560" cy="792000"/>
              <a:chOff x="611280" y="476280"/>
              <a:chExt cx="1024560" cy="792000"/>
            </a:xfrm>
          </p:grpSpPr>
          <p:pic>
            <p:nvPicPr>
              <p:cNvPr id="540" name="Picture 7" descr="http://www.peruembassy-uk.com/Images/Escudo.gif"/>
              <p:cNvPicPr/>
              <p:nvPr/>
            </p:nvPicPr>
            <p:blipFill>
              <a:blip r:embed="rId2">
                <a:lum bright="12000"/>
              </a:blip>
              <a:stretch/>
            </p:blipFill>
            <p:spPr>
              <a:xfrm>
                <a:off x="611280" y="605520"/>
                <a:ext cx="1024560" cy="662760"/>
              </a:xfrm>
              <a:prstGeom prst="rect">
                <a:avLst/>
              </a:prstGeom>
              <a:ln w="0">
                <a:noFill/>
              </a:ln>
            </p:spPr>
          </p:pic>
          <p:sp>
            <p:nvSpPr>
              <p:cNvPr id="541" name="WordArt 8"/>
              <p:cNvSpPr txBox="1"/>
              <p:nvPr/>
            </p:nvSpPr>
            <p:spPr>
              <a:xfrm>
                <a:off x="708120" y="476280"/>
                <a:ext cx="77436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542" name="Rectangle 9"/>
            <p:cNvSpPr/>
            <p:nvPr/>
          </p:nvSpPr>
          <p:spPr>
            <a:xfrm>
              <a:off x="5870160" y="498960"/>
              <a:ext cx="2733840" cy="76896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543" name="Rectangle 10"/>
            <p:cNvSpPr/>
            <p:nvPr/>
          </p:nvSpPr>
          <p:spPr>
            <a:xfrm>
              <a:off x="3136320" y="498960"/>
              <a:ext cx="2733840" cy="76896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544" name="Rectangle 11"/>
            <p:cNvSpPr/>
            <p:nvPr/>
          </p:nvSpPr>
          <p:spPr>
            <a:xfrm>
              <a:off x="1663920" y="498960"/>
              <a:ext cx="1565280" cy="76896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B2B7-1BA2-44A8-AF24-3111BDD8B3D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65" name="Text Box 9"/>
          <p:cNvSpPr/>
          <p:nvPr/>
        </p:nvSpPr>
        <p:spPr>
          <a:xfrm>
            <a:off x="8244000" y="6093000"/>
            <a:ext cx="183960" cy="457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66" name="Rectangle 2"/>
          <p:cNvSpPr/>
          <p:nvPr/>
        </p:nvSpPr>
        <p:spPr>
          <a:xfrm>
            <a:off x="73080" y="415800"/>
            <a:ext cx="8999640" cy="14414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CONOCIMIENTO DE LA SENTENCIA JUDICIAL EN SITUACIÒN DE COSA JUZGADA, NOTIFICADA A LA ENTIDAD </a:t>
            </a:r>
            <a:br>
              <a:rPr sz="2000"/>
            </a:b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N/C  C-100000-164)</a:t>
            </a:r>
            <a:endParaRPr b="1" i="1" lang="en-US" sz="2000" spc="-1" strike="noStrike">
              <a:solidFill>
                <a:srgbClr val="000000"/>
              </a:solidFill>
              <a:latin typeface="Verdana"/>
            </a:endParaRPr>
          </a:p>
        </p:txBody>
      </p:sp>
      <p:graphicFrame>
        <p:nvGraphicFramePr>
          <p:cNvPr id="567" name=""/>
          <p:cNvGraphicFramePr/>
          <p:nvPr/>
        </p:nvGraphicFramePr>
        <p:xfrm>
          <a:off x="71280" y="2082960"/>
          <a:ext cx="9144000" cy="4546440"/>
        </p:xfrm>
        <a:graphic>
          <a:graphicData uri="http://schemas.openxmlformats.org/drawingml/2006/table">
            <a:tbl>
              <a:tblPr/>
              <a:tblGrid>
                <a:gridCol w="1244880"/>
                <a:gridCol w="5730840"/>
                <a:gridCol w="1006560"/>
                <a:gridCol w="1161720"/>
              </a:tblGrid>
              <a:tr h="777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ÒDIGO</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DENOMINACIÒN</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DEBE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ABE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24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ROVISIONE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XXX</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776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401.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rovisión Sentencias Judiciales, Laudos Arbítrales y Otro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6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401.01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A trabajadores Gubernamentale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6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2103</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UENTAS POR PAGA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XXX</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7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103.99</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Otras Cuentas por Paga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D107-7F84-4EBC-B0D0-3019EACCA9E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69" name="Rectangle 7"/>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70" name="PlaceHolder 1"/>
          <p:cNvSpPr>
            <a:spLocks noGrp="1"/>
          </p:cNvSpPr>
          <p:nvPr>
            <p:ph type="title"/>
          </p:nvPr>
        </p:nvSpPr>
        <p:spPr>
          <a:xfrm>
            <a:off x="81000" y="356760"/>
            <a:ext cx="8848800" cy="1368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REBAJA DEL CONTROL DE LOS DOCUMENTOS RECIBIDOS POR RECLAMACIONES Y REGISTRADOS COMO OBLIGACIÒN POR ESTAR EN SITUACIÒN DE COSA JUZGADA (N/C C-140000-043)</a:t>
            </a:r>
            <a:endParaRPr b="1" lang="en-US" sz="2400" spc="-1" strike="noStrike">
              <a:solidFill>
                <a:srgbClr val="000000"/>
              </a:solidFill>
              <a:latin typeface="Arial"/>
            </a:endParaRPr>
          </a:p>
        </p:txBody>
      </p:sp>
      <p:graphicFrame>
        <p:nvGraphicFramePr>
          <p:cNvPr id="571" name=""/>
          <p:cNvGraphicFramePr/>
          <p:nvPr/>
        </p:nvGraphicFramePr>
        <p:xfrm>
          <a:off x="150840" y="2009880"/>
          <a:ext cx="8850240" cy="4680000"/>
        </p:xfrm>
        <a:graphic>
          <a:graphicData uri="http://schemas.openxmlformats.org/drawingml/2006/table">
            <a:tbl>
              <a:tblPr/>
              <a:tblGrid>
                <a:gridCol w="1252440"/>
                <a:gridCol w="5145120"/>
                <a:gridCol w="1225440"/>
                <a:gridCol w="1227240"/>
              </a:tblGrid>
              <a:tr h="43164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DENOMINACIÒN</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DEBE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9110</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UENTAS DE CONTINGENCIAS POR CONTRA</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10.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Contingencias por contra</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10.0104</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Laborale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9109</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UENTAS DE CONTINGENCIAS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09.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Contingencias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09.0104</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Laborale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2EA9-153B-4355-87F6-F177A9A94DB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73" name="PlaceHolder 1"/>
          <p:cNvSpPr>
            <a:spLocks noGrp="1"/>
          </p:cNvSpPr>
          <p:nvPr>
            <p:ph type="title"/>
          </p:nvPr>
        </p:nvSpPr>
        <p:spPr>
          <a:xfrm>
            <a:off x="71280" y="444600"/>
            <a:ext cx="9072720" cy="141264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AFECTACIÒN MENSUAL AL PRESUPUESTO INSTITUCIONAL POR EL PORCENTAJE ESTABLECIDO </a:t>
            </a:r>
            <a:br>
              <a:rPr sz="2400"/>
            </a:br>
            <a:r>
              <a:rPr b="1" lang="es-ES" sz="2400" spc="-1" strike="noStrike">
                <a:solidFill>
                  <a:srgbClr val="ff0000"/>
                </a:solidFill>
                <a:latin typeface="Arial"/>
              </a:rPr>
              <a:t>PARA EL PAGO DE SENTENCIAS JUDICIALES</a:t>
            </a:r>
            <a:r>
              <a:rPr b="1" lang="es-ES" sz="2400" spc="-1" strike="noStrike">
                <a:solidFill>
                  <a:srgbClr val="000000"/>
                </a:solidFill>
                <a:latin typeface="Arial"/>
              </a:rPr>
              <a:t> </a:t>
            </a:r>
            <a:br>
              <a:rPr sz="2400"/>
            </a:br>
            <a:r>
              <a:rPr b="1" lang="es-ES" sz="2400" spc="-1" strike="noStrike">
                <a:solidFill>
                  <a:srgbClr val="000000"/>
                </a:solidFill>
                <a:latin typeface="Arial"/>
              </a:rPr>
              <a:t>(CLASIFICADOR 2.5.51.15 DOCENTES UNIVERSITARIOS)</a:t>
            </a:r>
            <a:endParaRPr b="1" lang="en-US" sz="2400" spc="-1" strike="noStrike">
              <a:solidFill>
                <a:srgbClr val="000000"/>
              </a:solidFill>
              <a:latin typeface="Arial"/>
            </a:endParaRPr>
          </a:p>
        </p:txBody>
      </p:sp>
      <p:sp>
        <p:nvSpPr>
          <p:cNvPr id="574" name="Rectangle 3"/>
          <p:cNvSpPr/>
          <p:nvPr/>
        </p:nvSpPr>
        <p:spPr>
          <a:xfrm>
            <a:off x="936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75"/>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343080" indent="-343080" algn="just">
              <a:lnSpc>
                <a:spcPct val="100000"/>
              </a:lnSpc>
              <a:spcBef>
                <a:spcPts val="575"/>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p:txBody>
      </p:sp>
      <p:graphicFrame>
        <p:nvGraphicFramePr>
          <p:cNvPr id="575" name=""/>
          <p:cNvGraphicFramePr/>
          <p:nvPr/>
        </p:nvGraphicFramePr>
        <p:xfrm>
          <a:off x="71280" y="2082960"/>
          <a:ext cx="9001440" cy="4617720"/>
        </p:xfrm>
        <a:graphic>
          <a:graphicData uri="http://schemas.openxmlformats.org/drawingml/2006/table">
            <a:tbl>
              <a:tblPr/>
              <a:tblGrid>
                <a:gridCol w="1332000"/>
                <a:gridCol w="5060880"/>
                <a:gridCol w="1303560"/>
                <a:gridCol w="1305000"/>
              </a:tblGrid>
              <a:tr h="658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NOMINACIÒN</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BE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83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PRESUPUESTO DE GAST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701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3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7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301.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84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SIGNACIONES COMPROMETIDA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93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4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8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401.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680B-BBC1-43A5-909F-713B9D0C0E6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77" name="PlaceHolder 1"/>
          <p:cNvSpPr>
            <a:spLocks noGrp="1"/>
          </p:cNvSpPr>
          <p:nvPr>
            <p:ph type="title"/>
          </p:nvPr>
        </p:nvSpPr>
        <p:spPr>
          <a:xfrm>
            <a:off x="-360" y="0"/>
            <a:ext cx="9333000" cy="15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s-ES" sz="2400" spc="-1" strike="noStrike">
                <a:solidFill>
                  <a:srgbClr val="ff0000"/>
                </a:solidFill>
                <a:latin typeface="Arial"/>
              </a:rPr>
              <a:t>POR EL REGISTRO DEL DEVENGADO POR EL PORCENTAJE ESTABLECIDO PARA EL PAGO DE SENTENCIAS JUDICIALES</a:t>
            </a:r>
            <a:br>
              <a:rPr sz="2400"/>
            </a:br>
            <a:r>
              <a:rPr b="1" lang="es-ES" sz="2400" spc="-1" strike="noStrike">
                <a:solidFill>
                  <a:srgbClr val="000000"/>
                </a:solidFill>
                <a:latin typeface="Arial"/>
              </a:rPr>
              <a:t>(CLASIFICADOR 2.5.51.15 DOCENTES UNIVERSITARIOS)</a:t>
            </a:r>
            <a:r>
              <a:rPr b="1" lang="es-ES" sz="2400" spc="-1" strike="noStrike">
                <a:solidFill>
                  <a:srgbClr val="000000"/>
                </a:solidFill>
                <a:latin typeface="Arial"/>
              </a:rPr>
              <a:t> </a:t>
            </a:r>
            <a:endParaRPr b="1" lang="en-US" sz="2400" spc="-1" strike="noStrike">
              <a:solidFill>
                <a:srgbClr val="000000"/>
              </a:solidFill>
              <a:latin typeface="Arial"/>
            </a:endParaRPr>
          </a:p>
        </p:txBody>
      </p:sp>
      <p:sp>
        <p:nvSpPr>
          <p:cNvPr id="578" name="Rectangle 3"/>
          <p:cNvSpPr/>
          <p:nvPr/>
        </p:nvSpPr>
        <p:spPr>
          <a:xfrm>
            <a:off x="1508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579" name=""/>
          <p:cNvGraphicFramePr/>
          <p:nvPr/>
        </p:nvGraphicFramePr>
        <p:xfrm>
          <a:off x="142920" y="1773360"/>
          <a:ext cx="8858160" cy="4608360"/>
        </p:xfrm>
        <a:graphic>
          <a:graphicData uri="http://schemas.openxmlformats.org/drawingml/2006/table">
            <a:tbl>
              <a:tblPr/>
              <a:tblGrid>
                <a:gridCol w="1084320"/>
                <a:gridCol w="5946840"/>
                <a:gridCol w="898200"/>
                <a:gridCol w="928800"/>
              </a:tblGrid>
              <a:tr h="591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26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RVICIOS Y OTROS CONTRATADOS POR ANTICIPAD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590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17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816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1239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2210-CB43-49F6-9612-615EE00E5C6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81" name="PlaceHolder 1"/>
          <p:cNvSpPr>
            <a:spLocks noGrp="1"/>
          </p:cNvSpPr>
          <p:nvPr>
            <p:ph type="title"/>
          </p:nvPr>
        </p:nvSpPr>
        <p:spPr>
          <a:xfrm>
            <a:off x="0" y="285840"/>
            <a:ext cx="9144000" cy="141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EJECUCIÒN DEL PRESUPUESTO DE GASTOS </a:t>
            </a:r>
            <a:br>
              <a:rPr sz="2400"/>
            </a:br>
            <a:r>
              <a:rPr b="1" lang="es-ES" sz="2400" spc="-1" strike="noStrike">
                <a:solidFill>
                  <a:srgbClr val="ff0000"/>
                </a:solidFill>
                <a:latin typeface="Arial"/>
              </a:rPr>
              <a:t>   (Artículo 70º de la Ley Nº 28411) </a:t>
            </a:r>
            <a:br>
              <a:rPr sz="2400"/>
            </a:br>
            <a:endParaRPr b="1" lang="en-US" sz="2400" spc="-1" strike="noStrike">
              <a:solidFill>
                <a:srgbClr val="000000"/>
              </a:solidFill>
              <a:latin typeface="Arial"/>
            </a:endParaRPr>
          </a:p>
        </p:txBody>
      </p:sp>
      <p:sp>
        <p:nvSpPr>
          <p:cNvPr id="582" name="Rectangle 3"/>
          <p:cNvSpPr/>
          <p:nvPr/>
        </p:nvSpPr>
        <p:spPr>
          <a:xfrm>
            <a:off x="1508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583" name=""/>
          <p:cNvGraphicFramePr/>
          <p:nvPr/>
        </p:nvGraphicFramePr>
        <p:xfrm>
          <a:off x="285840" y="1857240"/>
          <a:ext cx="8858160" cy="4561200"/>
        </p:xfrm>
        <a:graphic>
          <a:graphicData uri="http://schemas.openxmlformats.org/drawingml/2006/table">
            <a:tbl>
              <a:tblPr/>
              <a:tblGrid>
                <a:gridCol w="1311120"/>
                <a:gridCol w="4979880"/>
                <a:gridCol w="1283040"/>
                <a:gridCol w="1284120"/>
              </a:tblGrid>
              <a:tr h="61452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ASIGNACIONES COMPROMETID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91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6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EJECUCIÒN DE GAST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9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D8D8-B64C-43C1-A0C0-19CA4176DFB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85" name="PlaceHolder 1"/>
          <p:cNvSpPr>
            <a:spLocks noGrp="1"/>
          </p:cNvSpPr>
          <p:nvPr>
            <p:ph type="title"/>
          </p:nvPr>
        </p:nvSpPr>
        <p:spPr>
          <a:xfrm>
            <a:off x="71280" y="272520"/>
            <a:ext cx="9072720" cy="14130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EL REGISTRO DE LOS CHEQUES GIRADOS CON LA </a:t>
            </a:r>
            <a:br>
              <a:rPr sz="2400"/>
            </a:br>
            <a:r>
              <a:rPr b="1" lang="es-ES" sz="2400" spc="-1" strike="noStrike">
                <a:solidFill>
                  <a:srgbClr val="ff0000"/>
                </a:solidFill>
                <a:latin typeface="Arial"/>
              </a:rPr>
              <a:t>SUB CUENTA DEL TESORO PÙBLICO QUE SE VAN A DEPOSITAR MENSUALMENTE EN LA CUENTA BANCARIA APERTURADA EN EL BANCO DE LA NACIÒN</a:t>
            </a:r>
            <a:r>
              <a:rPr b="1" lang="es-ES"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586" name=""/>
          <p:cNvGraphicFramePr/>
          <p:nvPr/>
        </p:nvGraphicFramePr>
        <p:xfrm>
          <a:off x="142920" y="2309760"/>
          <a:ext cx="8786880" cy="3905280"/>
        </p:xfrm>
        <a:graphic>
          <a:graphicData uri="http://schemas.openxmlformats.org/drawingml/2006/table">
            <a:tbl>
              <a:tblPr/>
              <a:tblGrid>
                <a:gridCol w="1278000"/>
                <a:gridCol w="4956120"/>
                <a:gridCol w="1274760"/>
                <a:gridCol w="1278000"/>
              </a:tblGrid>
              <a:tr h="58104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OBLIGACIONES TESORO PÙ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6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5.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Gasto Corriente</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ECF8-2C2E-43B2-9D29-B577B5E2917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88" name="PlaceHolder 1"/>
          <p:cNvSpPr>
            <a:spLocks noGrp="1"/>
          </p:cNvSpPr>
          <p:nvPr>
            <p:ph type="title"/>
          </p:nvPr>
        </p:nvSpPr>
        <p:spPr>
          <a:xfrm>
            <a:off x="0" y="70920"/>
            <a:ext cx="9144000" cy="14130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rPr>
              <a:t>POR EL REGISTRO DE CHEQUES PAGADOS - INFORMACIÒN RECIBIDA DEL BANCO DE LA NACIÒN - RECURSOS </a:t>
            </a:r>
            <a:br>
              <a:rPr sz="2200"/>
            </a:br>
            <a:r>
              <a:rPr b="1" lang="es-ES" sz="2200" spc="-1" strike="noStrike">
                <a:solidFill>
                  <a:srgbClr val="ff0000"/>
                </a:solidFill>
                <a:latin typeface="Arial"/>
              </a:rPr>
              <a:t>ORDINARIOS</a:t>
            </a:r>
            <a:endParaRPr b="1" lang="en-US" sz="2200" spc="-1" strike="noStrike">
              <a:solidFill>
                <a:srgbClr val="000000"/>
              </a:solidFill>
              <a:latin typeface="Arial"/>
            </a:endParaRPr>
          </a:p>
        </p:txBody>
      </p:sp>
      <p:graphicFrame>
        <p:nvGraphicFramePr>
          <p:cNvPr id="589" name=""/>
          <p:cNvGraphicFramePr/>
          <p:nvPr/>
        </p:nvGraphicFramePr>
        <p:xfrm>
          <a:off x="214200" y="1785960"/>
          <a:ext cx="8786880" cy="4564080"/>
        </p:xfrm>
        <a:graphic>
          <a:graphicData uri="http://schemas.openxmlformats.org/drawingml/2006/table">
            <a:tbl>
              <a:tblPr/>
              <a:tblGrid>
                <a:gridCol w="1189080"/>
                <a:gridCol w="5110200"/>
                <a:gridCol w="1322280"/>
                <a:gridCol w="1165320"/>
              </a:tblGrid>
              <a:tr h="83340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OBLIGACIONES TESORO PÙ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5.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Gasto Corriente</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2398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44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TRASPASOS Y REMESAS CORRIENTES RECIBID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4402.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Traspasos del Tesoro Pú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97B0-2BA3-430F-8C48-A28550A678A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1" name="Rectangle 2"/>
          <p:cNvSpPr/>
          <p:nvPr/>
        </p:nvSpPr>
        <p:spPr>
          <a:xfrm>
            <a:off x="0" y="272880"/>
            <a:ext cx="9144000" cy="141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DEPÒSITO DE LOS FONDOS EN LA CUENTA BANCARIA APERTURADA POR LA DNTP EN EL BANCO DE LA NACIÒN PARA EL PAGO MENSUAL DE LAS SENTENCIAS JUDICIALES  (Ingreso sin clasificador  I – 000000-104)</a:t>
            </a:r>
            <a:endParaRPr b="1" i="1" lang="en-US" sz="2000" spc="-1" strike="noStrike">
              <a:solidFill>
                <a:srgbClr val="000000"/>
              </a:solidFill>
              <a:latin typeface="Verdana"/>
            </a:endParaRPr>
          </a:p>
        </p:txBody>
      </p:sp>
      <p:graphicFrame>
        <p:nvGraphicFramePr>
          <p:cNvPr id="592" name=""/>
          <p:cNvGraphicFramePr/>
          <p:nvPr/>
        </p:nvGraphicFramePr>
        <p:xfrm>
          <a:off x="71280" y="2011320"/>
          <a:ext cx="8858520" cy="4489560"/>
        </p:xfrm>
        <a:graphic>
          <a:graphicData uri="http://schemas.openxmlformats.org/drawingml/2006/table">
            <a:tbl>
              <a:tblPr/>
              <a:tblGrid>
                <a:gridCol w="1222560"/>
                <a:gridCol w="5808600"/>
                <a:gridCol w="819360"/>
                <a:gridCol w="1008000"/>
              </a:tblGrid>
              <a:tr h="64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641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3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1101.03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1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SERVICIOS Y OTROS CONTRATADOS POR ANTICIPADO</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16B9-F5F8-474F-B284-F006A082FFF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4" name="Rectangle 2"/>
          <p:cNvSpPr/>
          <p:nvPr/>
        </p:nvSpPr>
        <p:spPr>
          <a:xfrm>
            <a:off x="-71280" y="-142920"/>
            <a:ext cx="933264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s-ES" sz="2000" spc="-1" strike="noStrike">
                <a:solidFill>
                  <a:srgbClr val="ff0000"/>
                </a:solidFill>
                <a:latin typeface="Arial"/>
              </a:rPr>
              <a:t>POR LOS PAGOS MENSUALES DE LAS SENTENCIAS JUDICIALES EFECTUADOS A LOS BENEFICIARIOS </a:t>
            </a:r>
            <a:br>
              <a:rPr sz="2000"/>
            </a:br>
            <a:r>
              <a:rPr b="1" lang="es-ES" sz="2000" spc="-1" strike="noStrike">
                <a:solidFill>
                  <a:srgbClr val="ff0000"/>
                </a:solidFill>
                <a:latin typeface="Arial"/>
              </a:rPr>
              <a:t>(Gasto sin clasificador G-000000-049) </a:t>
            </a:r>
            <a:br>
              <a:rPr sz="2000"/>
            </a:br>
            <a:endParaRPr b="1" i="1" lang="en-US" sz="2000" spc="-1" strike="noStrike">
              <a:solidFill>
                <a:srgbClr val="000000"/>
              </a:solidFill>
              <a:latin typeface="Verdana"/>
            </a:endParaRPr>
          </a:p>
        </p:txBody>
      </p:sp>
      <p:graphicFrame>
        <p:nvGraphicFramePr>
          <p:cNvPr id="595" name=""/>
          <p:cNvGraphicFramePr/>
          <p:nvPr/>
        </p:nvGraphicFramePr>
        <p:xfrm>
          <a:off x="158760" y="1785960"/>
          <a:ext cx="8842320" cy="4548240"/>
        </p:xfrm>
        <a:graphic>
          <a:graphicData uri="http://schemas.openxmlformats.org/drawingml/2006/table">
            <a:tbl>
              <a:tblPr/>
              <a:tblGrid>
                <a:gridCol w="1306440"/>
                <a:gridCol w="4973760"/>
                <a:gridCol w="1280880"/>
                <a:gridCol w="1281240"/>
              </a:tblGrid>
              <a:tr h="75708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69FD-5BF8-4932-9C17-8B0F486821B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7" name="Rectangle 2"/>
          <p:cNvSpPr/>
          <p:nvPr/>
        </p:nvSpPr>
        <p:spPr>
          <a:xfrm>
            <a:off x="0" y="357120"/>
            <a:ext cx="93330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POR EL REGISTRO DE LOS CHEQUES GIRADOS CON CUENTAS CORRIENTES DISTINTAS DE RECURSOS ORDINARIOS</a:t>
            </a:r>
            <a:r>
              <a:rPr b="1" lang="es-ES" sz="2400" spc="-1" strike="noStrike">
                <a:solidFill>
                  <a:srgbClr val="000000"/>
                </a:solidFill>
                <a:latin typeface="Arial"/>
                <a:ea typeface="Arial"/>
              </a:rPr>
              <a:t> </a:t>
            </a:r>
            <a:br>
              <a:rPr sz="2400"/>
            </a:br>
            <a:endParaRPr b="1" i="1" lang="en-US" sz="2400" spc="-1" strike="noStrike">
              <a:solidFill>
                <a:srgbClr val="000000"/>
              </a:solidFill>
              <a:latin typeface="Verdana"/>
            </a:endParaRPr>
          </a:p>
        </p:txBody>
      </p:sp>
      <p:sp>
        <p:nvSpPr>
          <p:cNvPr id="598" name="Rectangle 3"/>
          <p:cNvSpPr/>
          <p:nvPr/>
        </p:nvSpPr>
        <p:spPr>
          <a:xfrm>
            <a:off x="6602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599" name=""/>
          <p:cNvGraphicFramePr/>
          <p:nvPr/>
        </p:nvGraphicFramePr>
        <p:xfrm>
          <a:off x="214200" y="1857240"/>
          <a:ext cx="8643960" cy="4405320"/>
        </p:xfrm>
        <a:graphic>
          <a:graphicData uri="http://schemas.openxmlformats.org/drawingml/2006/table">
            <a:tbl>
              <a:tblPr/>
              <a:tblGrid>
                <a:gridCol w="1279800"/>
                <a:gridCol w="4859280"/>
                <a:gridCol w="1252440"/>
                <a:gridCol w="1252440"/>
              </a:tblGrid>
              <a:tr h="41616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rivad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60" y="1642680"/>
            <a:ext cx="8575560" cy="4452840"/>
          </a:xfrm>
          <a:prstGeom prst="rect">
            <a:avLst/>
          </a:prstGeom>
          <a:noFill/>
          <a:ln w="0">
            <a:noFill/>
          </a:ln>
        </p:spPr>
        <p:txBody>
          <a:bodyPr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Black"/>
              </a:rPr>
              <a:t> </a:t>
            </a:r>
            <a:r>
              <a:rPr b="0" lang="es-ES" sz="3200" spc="-1" strike="noStrike">
                <a:solidFill>
                  <a:srgbClr val="ff0000"/>
                </a:solidFill>
                <a:latin typeface="Arial Black"/>
              </a:rPr>
              <a:t>NIC-SP 19 PROVISIONES  Y PASIVOS </a:t>
            </a:r>
            <a:endParaRPr b="0" lang="en-US" sz="3200" spc="-1" strike="noStrike">
              <a:solidFill>
                <a:srgbClr val="000000"/>
              </a:solidFill>
              <a:latin typeface="Arial"/>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Black"/>
              </a:rPr>
              <a:t>        </a:t>
            </a:r>
            <a:r>
              <a:rPr b="0" lang="es-ES" sz="3200" spc="-1" strike="noStrike">
                <a:solidFill>
                  <a:srgbClr val="ff0000"/>
                </a:solidFill>
                <a:latin typeface="Arial Black"/>
              </a:rPr>
              <a:t>Y ACTIVOS CONTINGENTES     </a:t>
            </a:r>
            <a:endParaRPr b="0" lang="en-US" sz="3200" spc="-1" strike="noStrike">
              <a:solidFill>
                <a:srgbClr val="000000"/>
              </a:solidFill>
              <a:latin typeface="Arial"/>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Black"/>
              </a:rPr>
              <a:t>	</a:t>
            </a:r>
            <a:r>
              <a:rPr b="0" lang="es-ES" sz="3200" spc="-1" strike="noStrike">
                <a:solidFill>
                  <a:srgbClr val="ff0000"/>
                </a:solidFill>
                <a:latin typeface="Arial Black"/>
              </a:rPr>
              <a:t>	</a:t>
            </a:r>
            <a:r>
              <a:rPr b="0" lang="es-ES" sz="3200" spc="-1" strike="noStrike">
                <a:solidFill>
                  <a:srgbClr val="ff0000"/>
                </a:solidFill>
                <a:latin typeface="Arial Black"/>
              </a:rPr>
              <a:t>	</a:t>
            </a:r>
            <a:endParaRPr b="0" lang="en-US" sz="3200" spc="-1" strike="noStrike">
              <a:solidFill>
                <a:srgbClr val="000000"/>
              </a:solidFill>
              <a:latin typeface="Arial"/>
            </a:endParaRPr>
          </a:p>
          <a:p>
            <a:pPr marL="469800" indent="-4698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marL="469800" indent="-469800" algn="just">
              <a:spcAft>
                <a:spcPts val="9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2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A386-FB31-41F7-A052-76B2D69D795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E99B-992D-4D12-AFD8-1DA11FC6C71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1" name="Rectangle 2"/>
          <p:cNvSpPr/>
          <p:nvPr/>
        </p:nvSpPr>
        <p:spPr>
          <a:xfrm>
            <a:off x="-77760" y="142920"/>
            <a:ext cx="927720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EL REGISTRO DEL CONTROL DE CHEQUES O CARTAS ORDENES EMITIDAS CON CUENTAS CORRIENTES DISTINTAS DE RECURSOS ORDINARIOS </a:t>
            </a:r>
            <a:endParaRPr b="1" i="1" lang="en-US" sz="2400" spc="-1" strike="noStrike">
              <a:solidFill>
                <a:srgbClr val="000000"/>
              </a:solidFill>
              <a:latin typeface="Verdana"/>
            </a:endParaRPr>
          </a:p>
        </p:txBody>
      </p:sp>
      <p:graphicFrame>
        <p:nvGraphicFramePr>
          <p:cNvPr id="602" name=""/>
          <p:cNvGraphicFramePr/>
          <p:nvPr/>
        </p:nvGraphicFramePr>
        <p:xfrm>
          <a:off x="71280" y="1736640"/>
          <a:ext cx="8929800" cy="4764240"/>
        </p:xfrm>
        <a:graphic>
          <a:graphicData uri="http://schemas.openxmlformats.org/drawingml/2006/table">
            <a:tbl>
              <a:tblPr/>
              <a:tblGrid>
                <a:gridCol w="1262160"/>
                <a:gridCol w="5143680"/>
                <a:gridCol w="1261800"/>
                <a:gridCol w="1262160"/>
              </a:tblGrid>
              <a:tr h="595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595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tas Ordenes y Doc. Emitidos y/o Recibi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4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 por Entre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rol de Cartas Ordenes y Doc. Emitidos y/o Rec,</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3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38ED-B49E-4FED-A215-311EE43AE2A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4" name="Rectangle 2"/>
          <p:cNvSpPr/>
          <p:nvPr/>
        </p:nvSpPr>
        <p:spPr>
          <a:xfrm>
            <a:off x="-77760" y="28260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GISTRO DE LA ENTREGA DE CHEQUES O CARTAS ORDENES EMITIDAS CON CUENTAS CORRIENTES DISTINTAS DE RECURSOS ORDINARIOS </a:t>
            </a:r>
            <a:br>
              <a:rPr sz="2000"/>
            </a:br>
            <a:r>
              <a:rPr b="1" lang="es-ES" sz="2000" spc="-1" strike="noStrike">
                <a:solidFill>
                  <a:srgbClr val="ff0000"/>
                </a:solidFill>
                <a:latin typeface="Arial"/>
              </a:rPr>
              <a:t>(Artículo 70º de la Ley Nº 28411</a:t>
            </a:r>
            <a:r>
              <a:rPr b="1" lang="es-ES" sz="1700" spc="-1" strike="noStrike">
                <a:solidFill>
                  <a:srgbClr val="ff0000"/>
                </a:solidFill>
                <a:latin typeface="Arial"/>
              </a:rPr>
              <a:t>)</a:t>
            </a:r>
            <a:r>
              <a:rPr b="1" lang="es-ES" sz="1700" spc="-1" strike="noStrike">
                <a:solidFill>
                  <a:srgbClr val="000000"/>
                </a:solidFill>
                <a:latin typeface="Arial"/>
              </a:rPr>
              <a:t> </a:t>
            </a:r>
            <a:endParaRPr b="1" i="1" lang="en-US" sz="1700" spc="-1" strike="noStrike">
              <a:solidFill>
                <a:srgbClr val="000000"/>
              </a:solidFill>
              <a:latin typeface="Verdana"/>
            </a:endParaRPr>
          </a:p>
        </p:txBody>
      </p:sp>
      <p:graphicFrame>
        <p:nvGraphicFramePr>
          <p:cNvPr id="605" name=""/>
          <p:cNvGraphicFramePr/>
          <p:nvPr/>
        </p:nvGraphicFramePr>
        <p:xfrm>
          <a:off x="95400" y="1857240"/>
          <a:ext cx="8905680" cy="4910400"/>
        </p:xfrm>
        <a:graphic>
          <a:graphicData uri="http://schemas.openxmlformats.org/drawingml/2006/table">
            <a:tbl>
              <a:tblPr/>
              <a:tblGrid>
                <a:gridCol w="1258560"/>
                <a:gridCol w="5129280"/>
                <a:gridCol w="1258920"/>
                <a:gridCol w="1258920"/>
              </a:tblGrid>
              <a:tr h="613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612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 por Entre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5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rol de Cartas Ordenes y Doc. Emitidos y/o Rec.</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4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2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4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tas Ordenes y Doc. Emitidos y/o Recibi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3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B2AC-FC61-42E9-A3B7-D810BE09CB2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7" name="Rectangle 2"/>
          <p:cNvSpPr/>
          <p:nvPr/>
        </p:nvSpPr>
        <p:spPr>
          <a:xfrm>
            <a:off x="152280" y="272880"/>
            <a:ext cx="877752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REGISTRO DE SENTENCIAS JUDICIALES EN CALIDAD DE COSA JUZGADA CORRESPONDIENTE A EJERCICIOS ANTERIORES, NO PROVISIONADAS </a:t>
            </a:r>
            <a:br>
              <a:rPr sz="2000"/>
            </a:br>
            <a:r>
              <a:rPr b="1" lang="es-ES" sz="2000" spc="-1" strike="noStrike">
                <a:solidFill>
                  <a:srgbClr val="ff0000"/>
                </a:solidFill>
                <a:latin typeface="Arial"/>
                <a:ea typeface="Arial"/>
              </a:rPr>
              <a:t> (N/C   C-100000-162)</a:t>
            </a:r>
            <a:r>
              <a:rPr b="1" lang="es-ES" sz="2000" spc="-1" strike="noStrike">
                <a:solidFill>
                  <a:srgbClr val="000000"/>
                </a:solidFill>
                <a:latin typeface="Arial"/>
                <a:ea typeface="Arial"/>
              </a:rPr>
              <a:t> </a:t>
            </a:r>
            <a:endParaRPr b="1" i="1" lang="en-US" sz="2000" spc="-1" strike="noStrike">
              <a:solidFill>
                <a:srgbClr val="000000"/>
              </a:solidFill>
              <a:latin typeface="Verdana"/>
            </a:endParaRPr>
          </a:p>
        </p:txBody>
      </p:sp>
      <p:graphicFrame>
        <p:nvGraphicFramePr>
          <p:cNvPr id="608" name=""/>
          <p:cNvGraphicFramePr/>
          <p:nvPr/>
        </p:nvGraphicFramePr>
        <p:xfrm>
          <a:off x="142920" y="2082960"/>
          <a:ext cx="9001080" cy="4660920"/>
        </p:xfrm>
        <a:graphic>
          <a:graphicData uri="http://schemas.openxmlformats.org/drawingml/2006/table">
            <a:tbl>
              <a:tblPr/>
              <a:tblGrid>
                <a:gridCol w="1330200"/>
                <a:gridCol w="5062680"/>
                <a:gridCol w="1303200"/>
                <a:gridCol w="1305000"/>
              </a:tblGrid>
              <a:tr h="77760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3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RESULTADOS ACUMUL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3401.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éficit Acumulad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79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9521-36EB-4F8A-92F3-C255A55B09D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0" name="Rectangle 2"/>
          <p:cNvSpPr/>
          <p:nvPr/>
        </p:nvSpPr>
        <p:spPr>
          <a:xfrm>
            <a:off x="-142920" y="27288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REGISTRO PARA REGULARIZAR EL SALDO DE LAS CUENTAS 2103.99 OTRAS CUENTAS POR PAGAR Y 1205.98 OTROS EN EL CASO DE PAGO FRACCIONADO CON CUENTAS CORRIENTES DISTINTAS A R.O. </a:t>
            </a:r>
            <a:br>
              <a:rPr sz="2000"/>
            </a:br>
            <a:r>
              <a:rPr b="1" lang="es-ES" sz="2000" spc="-1" strike="noStrike">
                <a:solidFill>
                  <a:srgbClr val="ff0000"/>
                </a:solidFill>
                <a:latin typeface="Arial"/>
              </a:rPr>
              <a:t>(N/C C-100000-163)</a:t>
            </a:r>
            <a:endParaRPr b="1" i="1" lang="en-US" sz="2000" spc="-1" strike="noStrike">
              <a:solidFill>
                <a:srgbClr val="000000"/>
              </a:solidFill>
              <a:latin typeface="Verdana"/>
            </a:endParaRPr>
          </a:p>
        </p:txBody>
      </p:sp>
      <p:graphicFrame>
        <p:nvGraphicFramePr>
          <p:cNvPr id="611" name=""/>
          <p:cNvGraphicFramePr/>
          <p:nvPr/>
        </p:nvGraphicFramePr>
        <p:xfrm>
          <a:off x="71280" y="1797120"/>
          <a:ext cx="8929800" cy="4775040"/>
        </p:xfrm>
        <a:graphic>
          <a:graphicData uri="http://schemas.openxmlformats.org/drawingml/2006/table">
            <a:tbl>
              <a:tblPr/>
              <a:tblGrid>
                <a:gridCol w="1297080"/>
                <a:gridCol w="5515200"/>
                <a:gridCol w="1049040"/>
                <a:gridCol w="1068480"/>
              </a:tblGrid>
              <a:tr h="79668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o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SERVICIOS Y OTROS CONTRATADOS POR ANTICIPAD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A18A-D24F-41CC-80CC-7FB9CB57AD82}" type="slidenum">
              <a:rPr b="0" lang="es-PE" sz="1200" spc="-1" strike="noStrike">
                <a:solidFill>
                  <a:srgbClr val="000000"/>
                </a:solidFill>
                <a:latin typeface="Arial"/>
                <a:ea typeface="Arial"/>
              </a:rPr>
              <a:t>&lt;number&gt;</a:t>
            </a:fld>
            <a:endParaRPr b="1" i="1" lang="en-US" sz="1200" spc="-1" strike="noStrike">
              <a:solidFill>
                <a:srgbClr val="000000"/>
              </a:solidFill>
              <a:latin typeface="Verdana"/>
            </a:endParaRPr>
          </a:p>
        </p:txBody>
      </p:sp>
      <p:sp>
        <p:nvSpPr>
          <p:cNvPr id="548" name="2 CuadroTexto"/>
          <p:cNvSpPr/>
          <p:nvPr/>
        </p:nvSpPr>
        <p:spPr>
          <a:xfrm>
            <a:off x="120600" y="214200"/>
            <a:ext cx="8537040" cy="3690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ea typeface="Arial"/>
              </a:rPr>
              <a:t>       </a:t>
            </a:r>
            <a:r>
              <a:rPr b="1" lang="es-ES" sz="2000" spc="-1" strike="noStrike">
                <a:solidFill>
                  <a:srgbClr val="cc0000"/>
                </a:solidFill>
                <a:latin typeface="Arial"/>
                <a:ea typeface="Arial"/>
              </a:rPr>
              <a:t>Una provisión deberá reconocerse cuando:</a:t>
            </a:r>
            <a:endParaRPr b="1" i="1"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a)  La entidad tenga una obligación presente (legal o sobreentendida)</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Arial"/>
              </a:rPr>
              <a:t>resultante de un hecho pasado;</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b)  Sea probable que para liquidar la obligación se requiera de un flujo</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Arial"/>
              </a:rPr>
              <a:t>de salida de recursos que incorporen beneficios  económicos o  un</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Arial"/>
              </a:rPr>
              <a:t>potencial de servicio; y</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  Se pueda hacer una estimación confiable del importe ninguna</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Arial"/>
              </a:rPr>
              <a:t>obligación</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De no cumplirse estas condiciones, no se deberá reconocer ninguna provisión</a:t>
            </a:r>
            <a:endParaRPr b="1" i="1" lang="en-US" sz="1800" spc="-1" strike="noStrike">
              <a:solidFill>
                <a:srgbClr val="000000"/>
              </a:solidFill>
              <a:latin typeface="Verdana"/>
            </a:endParaRPr>
          </a:p>
        </p:txBody>
      </p:sp>
      <p:sp>
        <p:nvSpPr>
          <p:cNvPr id="549" name="3 CuadroTexto"/>
          <p:cNvSpPr/>
          <p:nvPr/>
        </p:nvSpPr>
        <p:spPr>
          <a:xfrm>
            <a:off x="428760" y="4143240"/>
            <a:ext cx="828648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Arial"/>
                <a:ea typeface="Arial"/>
              </a:rPr>
              <a:t>Obligación presente</a:t>
            </a:r>
            <a:endParaRPr b="1" i="1"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algunos casos no está claro  si  hay  o no obligación presente.   En tales</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sos, se considera que un hecho pasado ha dado lugar  a una  obligación</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esente cuando, tomando en cuenta toda la evidencia  disponible,  resulte</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ás probable que  improbable que la obligación presente existe a la Fecha de Presentación</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57B9-807D-408A-92FF-BE6510ECB4E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51" name="2 CuadroTexto"/>
          <p:cNvSpPr/>
          <p:nvPr/>
        </p:nvSpPr>
        <p:spPr>
          <a:xfrm>
            <a:off x="285840" y="1182600"/>
            <a:ext cx="8143920" cy="42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Arial"/>
                <a:ea typeface="Arial"/>
              </a:rPr>
              <a:t>Hecho pasado</a:t>
            </a:r>
            <a:endParaRPr b="1" i="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Un   hecho  pasado   que  conduce  a   una obligación presente recibe la denominación de hecho que genera obligación.  Para  que hecho sea un hecho que genera obligación, es necesario que la entidad  no tenga  otra alternativa  realista que asumir la obligación creada por el hecho.</a:t>
            </a:r>
            <a:endParaRPr b="1" i="1"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FC38-CE69-4B88-A3BB-57BAAD207DC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53" name="2 CuadroTexto"/>
          <p:cNvSpPr/>
          <p:nvPr/>
        </p:nvSpPr>
        <p:spPr>
          <a:xfrm>
            <a:off x="214200" y="1143000"/>
            <a:ext cx="8715600" cy="429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ea typeface="Arial"/>
              </a:rPr>
              <a:t>Probable flujo de salida de recursos que incorporan beneficios económicos o un potencial de servicio</a:t>
            </a:r>
            <a:endParaRPr b="1" i="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ara los fines de esta Norma,  se  considera  que  un flujo   de   salida   de  recursos   u   otro    hecho  son probables  cuando  su  ocurrencia  es  más  probable  que probable, es decir, cuando la probabilidad de que el hecho ocurra es mayor que la probabilidad de que no ocurra.</a:t>
            </a:r>
            <a:endParaRPr b="1" i="1" lang="en-US" sz="2800" spc="-1" strike="noStrike">
              <a:solidFill>
                <a:srgbClr val="000000"/>
              </a:solidFill>
              <a:latin typeface="Verdana"/>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97B9-638C-4D47-80C1-C09EBC8FFB2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55" name="2 CuadroTexto"/>
          <p:cNvSpPr/>
          <p:nvPr/>
        </p:nvSpPr>
        <p:spPr>
          <a:xfrm>
            <a:off x="285840" y="571680"/>
            <a:ext cx="8358120" cy="524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ea typeface="Arial"/>
              </a:rPr>
              <a:t>Estimación confiable de la obligación</a:t>
            </a:r>
            <a:endParaRPr b="1" i="1"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uso de estimaciones es una parte esencial de la preparación de los estados financieros y no afecta su confiabilidad. Esto es especialmente cierto en el caso de las provisiones, las cuales, por su naturaleza, son más inciertas que la mayoría de los otros activos o pasivos. Salvo casos extremadamente raros, la entidad estará en capacidad de determinar un rango de consecuencias posibles y podrá, por tanto, hacer respecto a la obligación, una estimación que sea suficientemente confiable como para usarla en el reconocimiento de una provisión.</a:t>
            </a:r>
            <a:endParaRPr b="1" i="1" lang="en-US" sz="2600" spc="-1" strike="noStrike">
              <a:solidFill>
                <a:srgbClr val="000000"/>
              </a:solidFill>
              <a:latin typeface="Verdana"/>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52DC-9FAC-474E-9BEF-5030412889D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57" name="2 CuadroTexto"/>
          <p:cNvSpPr/>
          <p:nvPr/>
        </p:nvSpPr>
        <p:spPr>
          <a:xfrm>
            <a:off x="214200" y="785880"/>
            <a:ext cx="84297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Arial"/>
                <a:ea typeface="Arial"/>
              </a:rPr>
              <a:t>Cambios en las provisiones</a:t>
            </a:r>
            <a:endParaRPr b="1" i="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Cada Fecha de Presentación las provisiones deberán revisarse y ajustarse para que reflejen la mejor estimación actualizada. Si ya no es probable que, para liquidar la obligación, se vaya a requerir de un flujo de salida de recursos que incorporen beneficios económicos o un potencial de servicio, se deberá revertir la provisión.</a:t>
            </a:r>
            <a:endParaRPr b="1" i="1" lang="en-US" sz="2800" spc="-1" strike="noStrike">
              <a:solidFill>
                <a:srgbClr val="000000"/>
              </a:solidFill>
              <a:latin typeface="Verdana"/>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B8EE-5ED2-457B-BFB4-8E160709B39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59" name="PlaceHolder 1"/>
          <p:cNvSpPr>
            <a:spLocks noGrp="1"/>
          </p:cNvSpPr>
          <p:nvPr>
            <p:ph type="title"/>
          </p:nvPr>
        </p:nvSpPr>
        <p:spPr>
          <a:xfrm>
            <a:off x="-71280" y="-360"/>
            <a:ext cx="9332640" cy="150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EL REGISTRO Y CONTROL DE LOS DOCUMENTOS RECIBIDOS POR RECLAMACIONES (N/C C-140000-042)</a:t>
            </a:r>
            <a:endParaRPr b="1" lang="en-US" sz="2400" spc="-1" strike="noStrike">
              <a:solidFill>
                <a:srgbClr val="000000"/>
              </a:solidFill>
              <a:latin typeface="Arial"/>
            </a:endParaRPr>
          </a:p>
        </p:txBody>
      </p:sp>
      <p:graphicFrame>
        <p:nvGraphicFramePr>
          <p:cNvPr id="560" name=""/>
          <p:cNvGraphicFramePr/>
          <p:nvPr/>
        </p:nvGraphicFramePr>
        <p:xfrm>
          <a:off x="144360" y="1938240"/>
          <a:ext cx="8928360" cy="4705560"/>
        </p:xfrm>
        <a:graphic>
          <a:graphicData uri="http://schemas.openxmlformats.org/drawingml/2006/table">
            <a:tbl>
              <a:tblPr/>
              <a:tblGrid>
                <a:gridCol w="1263600"/>
                <a:gridCol w="5189760"/>
                <a:gridCol w="1236600"/>
                <a:gridCol w="1238400"/>
              </a:tblGrid>
              <a:tr h="74916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CÒDIGO</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DENOMINACIÒN</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DEBE </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HABER</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91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1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1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DE CONTINGENCI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09.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ontingenci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09.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Laboral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5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9110</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DE CONTINGENCI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10.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ontingenci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10.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Laboral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02A2-70D0-4446-A413-2B22CA6BF39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62" name="PlaceHolder 1"/>
          <p:cNvSpPr>
            <a:spLocks noGrp="1"/>
          </p:cNvSpPr>
          <p:nvPr>
            <p:ph type="title"/>
          </p:nvPr>
        </p:nvSpPr>
        <p:spPr>
          <a:xfrm>
            <a:off x="80640" y="142560"/>
            <a:ext cx="9063000" cy="14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GISTRO DE LA PROVISIÒN DEL MONTO ESTIMADO DE LITIGIOS JUDICIALES EN PROCESO, INFORMADO POR EL PROCURADOR PÙBLICO (N/C C-090000-004)</a:t>
            </a:r>
            <a:endParaRPr b="1" lang="en-US" sz="2000" spc="-1" strike="noStrike">
              <a:solidFill>
                <a:srgbClr val="000000"/>
              </a:solidFill>
              <a:latin typeface="Arial"/>
            </a:endParaRPr>
          </a:p>
        </p:txBody>
      </p:sp>
      <p:graphicFrame>
        <p:nvGraphicFramePr>
          <p:cNvPr id="563" name=""/>
          <p:cNvGraphicFramePr/>
          <p:nvPr/>
        </p:nvGraphicFramePr>
        <p:xfrm>
          <a:off x="142920" y="1817640"/>
          <a:ext cx="8929800" cy="4743360"/>
        </p:xfrm>
        <a:graphic>
          <a:graphicData uri="http://schemas.openxmlformats.org/drawingml/2006/table">
            <a:tbl>
              <a:tblPr/>
              <a:tblGrid>
                <a:gridCol w="1333440"/>
                <a:gridCol w="5478480"/>
                <a:gridCol w="1001880"/>
                <a:gridCol w="1116000"/>
              </a:tblGrid>
              <a:tr h="790560">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5802</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OVISIONES DEL EJERCICIO</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802.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ntencias Judiciales, Laudos Arbítrales y Otro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4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OVISIONE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401.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ovisión Sentencias Judiciales, Laudos Arbítrales y Otro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401.01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 trabajadores Gubernamentale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Lenovo User</cp:lastModifiedBy>
  <cp:lastPrinted>2004-07-15T16:43:21Z</cp:lastPrinted>
  <dcterms:modified xsi:type="dcterms:W3CDTF">2010-12-15T17:08:13Z</dcterms:modified>
  <cp:revision>817</cp:revision>
  <dc:subject/>
  <dc:title>Presentación de PowerPoint</dc:title>
</cp:coreProperties>
</file>